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7A6F4-8476-42D7-926E-8257E0F5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3A14E-3D0D-4143-AE2C-B2E46740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1C199-C298-479B-9A83-15B1AA10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9EE70-3AE4-4B2D-860D-C503DFD5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29B0-EEC1-4FB4-8C58-77321977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6595-54EC-4A8E-AA4D-A34AD4E7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8128-C218-43A0-AC00-F6BF3155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FEA1-2CA8-40A3-A5D8-37144AB7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A6D2-9B11-42A9-998D-1C522755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ADF6-4577-4902-8683-51E3F749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6E9F-3F01-4758-B61B-03E36E4B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2C9C9-F283-41E6-A68C-F55AF859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D490-2DDE-41A0-A028-E7D217E3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BF7F-C83C-4993-99CD-76847DB2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2052-DCBE-415B-B503-22189A7D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DC40-914D-481F-A777-32941DF0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CF51-723D-4B10-ACF8-E0EBBD1A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2F7AC-2AD3-4576-ACFB-6BBD985F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64923-42E2-472A-B8CA-4A0A3ADA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78FBF-AEBF-4CE7-8477-B3489D23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4B4F2-2ED9-495E-A179-C149EC2F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97128-F44B-4E03-B03B-E1C203B3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E9DD2-3330-4B45-97D9-E83049AA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3BCA2-E141-456D-9E3F-04EA9107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0023-FC9B-476D-96F3-13C2374FFC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C06B-0060-4AA4-9AB4-1CB25E1E08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the Vigener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Vigen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re than 300 years cryptanalysts worked on the problem of breaking a polyalphabetic cipher (like the V-ciphe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63, a Polish Infantry officer, Friedrich W. Kasiski, published a short book (95 pages) which changed the nature of crypt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ad found a simple solution to the polyalphabetic ci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ied in 1881 without realizing that he had started a revolution in cryptograph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766A7-9310-4E0A-A030-5E53D14DB9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et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siski’s breakthrough was the observation th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71080" y="5610240"/>
            <a:ext cx="70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o, the size of the keyword can be determined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nature of repeated ciphertext character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400040" y="3324240"/>
            <a:ext cx="6573600" cy="1644480"/>
            <a:chOff x="1400040" y="3324240"/>
            <a:chExt cx="6573600" cy="1644480"/>
          </a:xfrm>
        </p:grpSpPr>
        <p:sp>
          <p:nvSpPr>
            <p:cNvPr id="119" name=""/>
            <p:cNvSpPr/>
            <p:nvPr/>
          </p:nvSpPr>
          <p:spPr>
            <a:xfrm>
              <a:off x="1400040" y="3324240"/>
              <a:ext cx="6573600" cy="164448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10360" y="3512880"/>
              <a:ext cx="5896440" cy="1186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 conjuction of a repeated portion 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 key with a repetition in the plain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duces a repetition in the ciphertex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6A32D-1BB6-40F1-9BC6-6574255C89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679040"/>
            <a:ext cx="8229600" cy="15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iven the keyword RUN and some plaintex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78040" y="3143160"/>
            <a:ext cx="7588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urier New"/>
              </a:rPr>
              <a:t>R U N R U N R U N R U N R U N R U N R U N R U N R U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 o b e o r n o t t o b e t h a t i s t h e q u e s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Courier New"/>
              </a:rPr>
              <a:t>K I O V I E E I G K I O V N U R N V J N U V K H V M G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71640" y="3998880"/>
            <a:ext cx="3399840" cy="0"/>
            <a:chOff x="971640" y="3998880"/>
            <a:chExt cx="3399840" cy="0"/>
          </a:xfrm>
        </p:grpSpPr>
        <p:sp>
          <p:nvSpPr>
            <p:cNvPr id="127" name=""/>
            <p:cNvSpPr/>
            <p:nvPr/>
          </p:nvSpPr>
          <p:spPr>
            <a:xfrm>
              <a:off x="971640" y="3998880"/>
              <a:ext cx="933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38360" y="3998880"/>
              <a:ext cx="933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88880" y="463716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Find repeated cipher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028880" y="4016520"/>
            <a:ext cx="2485800" cy="305640"/>
            <a:chOff x="1028880" y="4016520"/>
            <a:chExt cx="2485800" cy="305640"/>
          </a:xfrm>
        </p:grpSpPr>
        <p:sp>
          <p:nvSpPr>
            <p:cNvPr id="131" name=""/>
            <p:cNvSpPr/>
            <p:nvPr/>
          </p:nvSpPr>
          <p:spPr>
            <a:xfrm flipV="1">
              <a:off x="1028880" y="4046040"/>
              <a:ext cx="0" cy="276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14680" y="4046040"/>
              <a:ext cx="0" cy="276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04840" y="4227480"/>
              <a:ext cx="23238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7480" y="4016520"/>
              <a:ext cx="97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9 charac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87440" y="4979880"/>
            <a:ext cx="56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Count the number of characters between the repet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552920" y="3968640"/>
            <a:ext cx="1990440" cy="287280"/>
            <a:chOff x="4552920" y="3968640"/>
            <a:chExt cx="1990440" cy="287280"/>
          </a:xfrm>
        </p:grpSpPr>
        <p:sp>
          <p:nvSpPr>
            <p:cNvPr id="137" name=""/>
            <p:cNvSpPr/>
            <p:nvPr/>
          </p:nvSpPr>
          <p:spPr>
            <a:xfrm>
              <a:off x="4552920" y="3989160"/>
              <a:ext cx="361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81560" y="3970440"/>
              <a:ext cx="361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581360" y="4037040"/>
              <a:ext cx="0" cy="218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248160" y="4007880"/>
              <a:ext cx="0" cy="219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57680" y="4179960"/>
              <a:ext cx="15429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41000" y="3968640"/>
              <a:ext cx="97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6 charac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041480" y="5435640"/>
            <a:ext cx="768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OTE:  each time the key RUNR engages the rep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laintext 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to be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, the repeated ciphertext KIOV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BA392-FD99-4F9B-8F8C-95D513A3F8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2000" y="1657440"/>
            <a:ext cx="7272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perform this test automatically – select Kasiski Method under the polyalphabetic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222200" y="2446200"/>
            <a:ext cx="1036800" cy="4229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352600" y="2459160"/>
            <a:ext cx="6640560" cy="424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7CA44-86AC-401E-A51F-E13E590AB0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76772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the keyword size is known it is possible to discover the key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copies of the target ciphertext in columns where each column is shifted by one position in the alphab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26440" y="4564080"/>
            <a:ext cx="70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low frequency letters (j,k,q,x,z) should have a combined frequ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 about 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26080" y="5402160"/>
            <a:ext cx="68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y column in which these letters appear more frequently is 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27880" y="5931000"/>
            <a:ext cx="680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column with the correct frequency is a candidate for the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FA35F-C3C8-47D5-9EE5-6C601E1F9E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1360" y="1604880"/>
            <a:ext cx="71550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provides a low frequency analysis to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274760" y="2262240"/>
            <a:ext cx="1049400" cy="4278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728800" y="2262240"/>
            <a:ext cx="5985000" cy="4197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70080" y="3527280"/>
            <a:ext cx="1074600" cy="398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8BB47-139A-4FE5-B07D-D151861DFE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2T02:16:52Z</dcterms:modified>
  <cp:revision>58</cp:revision>
  <dc:subject/>
  <dc:title>CAP Cryptographic Analysis Program</dc:title>
</cp:coreProperties>
</file>